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248E-0917-41DF-BC07-7EA8629C2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8B19-F948-49A6-9B73-D259EA8963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E2A0D-CB31-4C43-AEEC-3D5C25AAC79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3B715-10A4-46AA-85A1-3DD67AF678C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669CE-ADEC-4D83-9251-A652F6079E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E5272-D19F-4143-8443-0F789CF3D2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FC444-52C1-4B5C-A356-FC43053B169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54A15-0833-4FE9-85E5-50E3C7E8723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1B5E3-706A-4E6B-9D84-F944F12B237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034926-73D9-4EAA-9BA6-F2D85EB4B8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51CFA-5B72-4211-9EB8-83D7319A43C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4971A4-0995-4B30-8BD8-38514CBB1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CE5C-62D5-4EB9-8BF0-A62B82ED88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6853C3-A618-44D5-8AB3-7CEF548811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15913E-7D25-498F-A0E0-7BF7A753425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A47FEF-491F-4999-A3A5-E047EADE9B3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09A61C-E07B-4D89-9397-2EDD2246593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E2C962-A292-46C7-9748-368CE4B5FFF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98E269-9C46-4105-A606-1FFBCE0A2AC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D85CE1-6BF9-49D0-95AE-30C6251AF19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27FBAC-07F6-4B83-B2ED-435326ED8ED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624352-3217-4B9E-9BD0-645434B95F0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3806AC-4B84-43F5-801D-C574CBB87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A472-8FD3-4C05-9955-A45F26D1ECE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F06602-BF86-4806-8CF1-F662300FC17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3BA04-DC0F-4AB3-A788-A4D60A061D1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B82BA-E85E-4BC0-8F46-CE821B9326B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4AEE1-CBDD-4CBD-B490-9078CD30CC1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3C51F-ABA8-45AE-B667-3F8127055B9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A6753-81F7-418B-A6F7-DA56A7AAE80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4B5D1-0102-448B-8B81-51022072730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D6E60-145E-429B-A1FA-D6315154F26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02CC-292A-43FA-86FE-49AC997E484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161B7-B3CA-4428-9ACF-82387478E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6FC7B-464B-4692-A728-C0729C3E666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D2139-D434-43FE-A22D-CA8C6D5EFB4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9387A-48E2-4A48-BDA1-B4217353074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93F2C4-4CDD-4B19-A5D0-8E2B8D9E25C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FAECE5-2C33-4137-BB5B-4ED7B3B5C40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D8E27-DEA1-457E-B222-83255C41DCC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934B54-8A25-4E3F-9204-A5E7E6D3BC6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04AE34-D8A7-4DA3-9529-191DE70314F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85E0C5-31B1-40EE-A744-B2984E73541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1DA38-D4DF-4F87-BF22-B0E5067BAC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401C63-438C-4334-8824-9FABD17ECFF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E76CBA-63E3-4578-A6B8-E84A1190116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373511-7EC8-46CD-BE6A-E7451049366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7A64BB-62F9-4E8F-BC4A-9BC2E3479FC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497E6F-DF13-421A-BED1-3E6A935232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6AD7-F33F-42D6-A8F5-0B4910CA4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6CBAF-204C-4C5A-A7AA-F4C349248B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147E1-8D16-4A6F-AB92-159A4ADEF6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51EA6-DB8B-41D8-8B99-D315BEA265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9C672-88E4-4C51-9095-836531DB54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3767F-56C1-4165-A2BB-F3534C404E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8308-1791-436E-82FE-187EDB8FED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54F44-A528-4A3F-9D0B-33F83D4671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1E0DA-B0D3-4586-8D5A-E51E6957B7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C4144-2BA9-4538-AD25-EB0D6F696C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9206B-3EC5-42C7-AE4E-A9E6F0B238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EE1C4-C5F3-41DF-BB77-F54E66A564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F7B9A-A7A0-40A7-BBAA-3858D4E509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33007-2E6A-489B-B3D8-34DA111985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D87CC9-74B2-4CF7-B86B-1955AD995F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455713-E1B8-4D1A-BDA5-CAAF50FD5E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39FB45-935E-4092-853C-BE18F445E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4D30-5C41-4DBC-9B4A-AA20D7B68B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2AF71-0DE2-48E4-AE03-DDBFA48BDC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4A7C8A-A586-43CA-BC94-B82ACE51B3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E57B7-6C0B-41F7-9E5E-4F21351481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1E6E60-B8B0-4BFC-AE0D-CF521F3384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DBE31-4460-4048-BA29-D7D794BCAA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F1FC1-2F56-4C43-A5C5-2BE881A111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6708F0-62F5-435C-8E64-000CA534D8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F9055-1170-4706-ADA5-98F05EAD78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11133-8E06-4CE8-8465-88036DDAE82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8D01-22E5-4742-A3DA-8210BA3AF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C3ED-E8AE-4343-B524-3EC5DDFE2C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BA3B-1FB6-413C-B453-DA57DAF4D5B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597F9-BB72-42AC-96CC-E67425322D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5A41-93FD-4D3B-8A8E-776672E4694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21E0A-BA60-4D41-BAC1-96AC0B1CED0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719A-478F-4943-AEF3-02318DF13B5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6EF66-A388-4680-BEF0-A0DB04DF7A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65894-D8CF-4171-A2E8-624E96F1DC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92A8-D520-42BE-B85E-6BAD4B4A8D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ED83-7758-4499-A139-0073EF0F0B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81242-B675-45F8-9AA2-BD4EC1377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7D35-3F2A-433F-B9DA-86FDE13B7E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8AED8-2311-485D-85E1-74EC02BC11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3F0FA-84C2-4AF4-86DD-1CDCB223AF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C17B6-828D-4FD2-8CEC-D75A27A723F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ED939-AC51-4757-AE43-1F03058412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8AE1C-C16F-4CAF-8F8C-0CEEF51402E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B0721-E04F-4374-839C-4B5BD28E47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F7AF8-7C91-44CE-B8AD-83EEB10DC3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905ED-F43A-4165-A517-D31B2D51054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720C6-880A-47A0-9B71-19C2B6B7C3D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B7C9F-9825-4FC9-92F0-E0125B3FF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DE51-F90B-4A09-B17F-FF952094AED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DB5881-2861-478D-9E82-E553C847B7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6513F-ED01-49D5-B0A1-44282D5306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22D30-34C9-4339-9A50-FC6CC443E4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0B4C76-8F25-4D76-876E-C5837647A75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842BD6-9563-411D-A889-3A0CADD54C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F8C13B-2E1B-4972-A4D2-F9128E1C87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53708F-DF76-4A99-8B1D-830B435944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05974-66C9-406D-8FD9-8BED289D176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618347-12EB-4172-8A9E-8DB76BAA37D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CD6B77-9FDC-4B1B-82B3-1EC042182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22D5-8156-4F62-8BAE-2C88F1390F6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4D1470-6BF7-4393-8D92-9E0279096C4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436B9C-7AEA-4949-937F-92D3DF63BE0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CC22F2-BE26-4924-8EFA-7B9A474DC9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DD21D9-492C-449D-B873-D07039B4CE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C9221-E5B0-48BA-8457-4FB58785592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B8B85-1DD4-4E4A-B32F-A106801B41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A0BF6-1EC9-442F-AE7A-F963B2FADE2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95B87-B91A-432A-9A9B-C0681252C6B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0DDE6-394C-4ECC-8FA9-850C18EA4A1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FB382-F313-4147-8E4E-4FE0EA2C8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26A4-E587-4972-BC25-4487B4A7CAD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6BA98-D926-4E44-8DA5-C52F19DA59D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A72F4-7711-47DD-A377-CFA6F3E9C03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C96B8-EFB5-40D2-B6CE-75291518F13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09B54-8729-4E2D-8238-C27B1587D4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BCC0C-5D1F-405C-8D3B-5584B8060B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E598-3D24-4651-AD0C-36711578103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B5EFC-B9C2-4942-9D7B-037734649B9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D8080-CE57-4462-B91B-FB537DAEAB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6C7A3-750E-4853-A12A-A01A271D36A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D808A-582B-436D-A586-42BE89BDD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DC3F-8027-4962-931E-96B70356692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8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9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7974-F9A7-48ED-9965-CFE0E92BE30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0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1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A54D-FB6F-485F-9B86-0D51AF34AEA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2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3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E1EF-1DE4-4A38-9F01-5E32DF4CE74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2438280" y="6305040"/>
            <a:ext cx="4724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1066680" y="6305040"/>
            <a:ext cx="701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0016-093A-46A5-AC5F-52CE76BD705A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6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7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89B6-5003-49DC-822B-9C4672CE4CE9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8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9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BA6B-9C37-43E3-A512-46C6D20C0A2B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0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1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3A28-8FCC-4EBC-960B-AF03F4CC0638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2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3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B27A-BD9A-424B-ABDE-D4BBE583DD7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4695-9CA5-47D1-AEC0-954F35307481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6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7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2EA6-EBEE-4FBA-8D18-001EC03D3E59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CMS Acknowledgements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Overview</a:t>
            </a:r>
            <a:endParaRPr b="1" lang="en-US" sz="2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e EDI translator will perform all X12 syntax edits and CMS-selected HIPAA IG edits, and output the following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1 for rejected interchange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99 for rejected functional groups/transaction set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99 for accepted functional groups/transaction set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11840" indent="-187200">
              <a:spcBef>
                <a:spcPts val="3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structurally sound non-compliant business units will be passed to CEM for rejection at the individual claim level (Accept with Errors)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MS flat files for accepted transac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0"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e CEM software will perform Medicare edits and CMS-selected IG edits, and produce the following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ssign claim control number to accepted claim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MS flat files for accepted transac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SzPct val="13120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 277CA for each accepted or rejected claim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609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This approach allows us to return individual claims as opposed to entire transactions sets when the error is not a syntactical structure issue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5AB7-A0C2-4637-B0D6-40E3D285537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br>
              <a:rPr sz="3200"/>
            </a:b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A - Information Source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8610480" y="653724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86C5-9541-46EE-B635-A12DC8F8053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57200" y="1066680"/>
          <a:ext cx="8381880" cy="466416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1&gt;&gt;20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Information Sour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ubordinate levels ex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AY&gt;2&gt;FIRST  CLEARINGHOUSE &gt;&gt;&gt;&gt;&gt;46&gt;CLHR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 ID Code (Clearinghou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e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 CLEARINGHOU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TIN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HR00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1&gt;200102051635S00001ABCDE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Receipt Control 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urrent Transaction Trac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02051635S00001ABCDE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Application Trace 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&gt;050&gt;D8&gt;20100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Receip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ceive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e expressed as CCYYMMD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Receip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&gt;009&gt;D8&gt;20100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nformation Source Process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ces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Date expressed as CCYYMMD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formation Source Process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B - Information Receiver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2880-1F56-4722-8BCC-293AC28AB7CB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838080"/>
          <a:ext cx="8382240" cy="53038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2&gt;1&gt;21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Par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Information Receiv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ubordinate levels ex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41&gt;2&gt;BEST BILLING SERVICE&gt;&gt;&gt;&gt;&gt;46&gt;S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 Identifier Code (Submit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entity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 BILLING SERVI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Sourc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TIN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2&gt;2002020542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Application Tra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ference transaction Trace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020542857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laim Transaction Batch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&gt;A7:23&gt;20100624&gt;U&gt;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formation Receiver Status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to E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tatus information Effective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Rej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Submitted Charges for Unit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&gt;AA&gt;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Unacknowledged Quant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&gt;YY&gt;10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060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2 – Loop 2000C – Billing Provider of Service Detail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87EF-502D-44D6-9DC7-EE1DC13DEDF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04920" y="609480"/>
          <a:ext cx="8381880" cy="583740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&gt;3&gt;2&gt;19&gt;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ID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Par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Level Code (Provider of Servic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 Subordinate levels ex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&gt;85&gt;2&gt;SMITH CLINIC&gt;&gt;&gt;&gt;&gt;XX&gt;123456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 Billing Provider Name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on-person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 CLINIC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Billing Provider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ational Provider I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5678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ederal Tax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&gt;1&gt;SMITH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vider of Service Info Trace ID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urrent Transaction Trace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789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ovider of Service Info Trace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&gt;A7:511&gt;&gt;U&gt;1000.00&gt;&gt;&gt;&gt;&gt;A7:504: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Status Information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alid 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Re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Submitted Charges for Unit 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k/Rejected for Invalid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ntity’s Last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illing Provider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&gt;QC&gt;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Quantity Disapprove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&gt;YY&gt;100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 Segment I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Returned Qualif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otal Rejected Amou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&gt;20&gt;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Trailer Segment 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Segment Cou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Review the Purpose of the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TA1, 999 and 277CA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TA1 is received, you will need to correct and resubmit the entire ISA – IEA Interchange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999 is received, you may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syntax errors occurred and begin a correct/resubmit action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all transactions were accepte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277CA is received, you may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business rule errors occurred and begin a correct/resubmit action on specific claims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cognize that all transactions were accepted,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returned claim numbers for future claim status inquir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5FE1-E533-4A2F-8E3D-EC9D39DA04E9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Special Situation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business error is encountered, a claim will continue to be edited so that all Front End System errors are identified are returned to the submitter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fatal error is encountered with data at the provider level, claim editing is NOT continued; all claims for that provider are returned without edit results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ABA8-851A-48BC-96A7-E3601C6FD2E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How will you use the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TA1, 999 and 277CA?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A1 and 999 reflect technical problems that must be addressed by the software preparing the EDI transmission;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ouble Tickets” will likely be addressed by technical resources to identify corrections needed before resubmissio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277CA reflects a data problem that must be addressed by resources in the Billing area;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lling staff will likely need reports to be produced using the 277CA transaction in order to identify claim corrections before resubmissio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inghouses and Vendors may consider offering a 277CA reporting capabilit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8759-04A1-4D92-BA25-37064785944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0" y="6534000"/>
            <a:ext cx="701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Medicare FFS Handling of Error Transactions (TA1, 999, and 277C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Additional Information for X12 5010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Purchase of Implementation Guides and access to Technical Ques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X12: http://store.x12.org/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X12 Responses to Technical Com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ttp://www.cms.hhs.gov/TransactionCodeSetsStands/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Other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equest Changes to standards: www.hipaa-dsmo.org 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MS Website for industry wide information: http://www.cms.hhs.gov/Versions5010andD0/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ttp://www.cms.hhs.gov/ElectronicBillingEDITrans/18_5010D0.asp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6885-F6F6-49C7-ACAF-4EFBEB5F77D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ounded Rectangle 40"/>
          <p:cNvSpPr/>
          <p:nvPr/>
        </p:nvSpPr>
        <p:spPr>
          <a:xfrm>
            <a:off x="4267080" y="304920"/>
            <a:ext cx="2133720" cy="14475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ounded Rectangle 1"/>
          <p:cNvSpPr/>
          <p:nvPr/>
        </p:nvSpPr>
        <p:spPr>
          <a:xfrm>
            <a:off x="152280" y="76320"/>
            <a:ext cx="3810240" cy="6705360"/>
          </a:xfrm>
          <a:custGeom>
            <a:avLst/>
            <a:gdLst>
              <a:gd name="textAreaLeft" fmla="*/ 78480 w 3810240"/>
              <a:gd name="textAreaRight" fmla="*/ 3731760 w 3810240"/>
              <a:gd name="textAreaTop" fmla="*/ 78480 h 6705360"/>
              <a:gd name="textAreaBottom" fmla="*/ 6626880 h 6705360"/>
            </a:gdLst>
            <a:ahLst/>
            <a:rect l="textAreaLeft" t="textAreaTop" r="textAreaRight" b="textAreaBottom"/>
            <a:pathLst>
              <a:path w="21600" h="38011">
                <a:moveTo>
                  <a:pt x="1520" y="0"/>
                </a:moveTo>
                <a:arcTo wR="1520" hR="1520" stAng="16200000" swAng="-5400000"/>
                <a:lnTo>
                  <a:pt x="0" y="36491"/>
                </a:lnTo>
                <a:arcTo wR="1520" hR="1520" stAng="10800000" swAng="-5400000"/>
                <a:lnTo>
                  <a:pt x="20080" y="38011"/>
                </a:lnTo>
                <a:arcTo wR="1520" hR="1520" stAng="5400000" swAng="-5400000"/>
                <a:lnTo>
                  <a:pt x="21600" y="1520"/>
                </a:lnTo>
                <a:arcTo wR="1520" hR="1520" stAng="0" swAng="-5400000"/>
                <a:close/>
              </a:path>
            </a:pathLst>
          </a:cu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ounded Rectangle 2"/>
          <p:cNvSpPr/>
          <p:nvPr/>
        </p:nvSpPr>
        <p:spPr>
          <a:xfrm>
            <a:off x="533520" y="2514600"/>
            <a:ext cx="3124080" cy="4114800"/>
          </a:xfrm>
          <a:custGeom>
            <a:avLst/>
            <a:gdLst>
              <a:gd name="textAreaLeft" fmla="*/ 86760 w 3124080"/>
              <a:gd name="textAreaRight" fmla="*/ 3037320 w 3124080"/>
              <a:gd name="textAreaTop" fmla="*/ 86760 h 4114800"/>
              <a:gd name="textAreaBottom" fmla="*/ 4028040 h 4114800"/>
            </a:gdLst>
            <a:ahLst/>
            <a:rect l="textAreaLeft" t="textAreaTop" r="textAreaRight" b="textAreaBottom"/>
            <a:pathLst>
              <a:path w="21600" h="28449">
                <a:moveTo>
                  <a:pt x="2056" y="0"/>
                </a:moveTo>
                <a:arcTo wR="2056" hR="2056" stAng="16200000" swAng="-5400000"/>
                <a:lnTo>
                  <a:pt x="0" y="26393"/>
                </a:lnTo>
                <a:arcTo wR="2056" hR="2056" stAng="10800000" swAng="-5400000"/>
                <a:lnTo>
                  <a:pt x="19544" y="2844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ounded Rectangle 10"/>
          <p:cNvSpPr/>
          <p:nvPr/>
        </p:nvSpPr>
        <p:spPr>
          <a:xfrm>
            <a:off x="817560" y="4876920"/>
            <a:ext cx="2611440" cy="1500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3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ounded Rectangle 3"/>
          <p:cNvSpPr/>
          <p:nvPr/>
        </p:nvSpPr>
        <p:spPr>
          <a:xfrm>
            <a:off x="817560" y="2895480"/>
            <a:ext cx="2611440" cy="1981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2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ounded Rectangle 4"/>
          <p:cNvSpPr/>
          <p:nvPr/>
        </p:nvSpPr>
        <p:spPr>
          <a:xfrm>
            <a:off x="1181160" y="3270240"/>
            <a:ext cx="1790640" cy="7682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1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Rounded Rectangle 8"/>
          <p:cNvSpPr/>
          <p:nvPr/>
        </p:nvSpPr>
        <p:spPr>
          <a:xfrm>
            <a:off x="1181160" y="4038480"/>
            <a:ext cx="1790640" cy="630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2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152280" y="152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mission Fil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ounded Rectangle 13"/>
          <p:cNvSpPr/>
          <p:nvPr/>
        </p:nvSpPr>
        <p:spPr>
          <a:xfrm>
            <a:off x="533520" y="457200"/>
            <a:ext cx="3124080" cy="205740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ounded Rectangle 17"/>
          <p:cNvSpPr/>
          <p:nvPr/>
        </p:nvSpPr>
        <p:spPr>
          <a:xfrm>
            <a:off x="762120" y="838080"/>
            <a:ext cx="2666880" cy="14479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1 (005010X21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ounded Rectangle 18"/>
          <p:cNvSpPr/>
          <p:nvPr/>
        </p:nvSpPr>
        <p:spPr>
          <a:xfrm>
            <a:off x="1066680" y="114300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(276)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1 Inquiry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2 Inquiry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Claim 3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5" name="Straight Arrow Connector 60"/>
          <p:cNvCxnSpPr/>
          <p:nvPr/>
        </p:nvCxnSpPr>
        <p:spPr>
          <a:xfrm>
            <a:off x="3428640" y="1219320"/>
            <a:ext cx="1067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6" name="Rounded Rectangle 36"/>
          <p:cNvSpPr/>
          <p:nvPr/>
        </p:nvSpPr>
        <p:spPr>
          <a:xfrm>
            <a:off x="1171440" y="51814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3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ounded Rectangle 39"/>
          <p:cNvSpPr/>
          <p:nvPr/>
        </p:nvSpPr>
        <p:spPr>
          <a:xfrm>
            <a:off x="4495680" y="609480"/>
            <a:ext cx="1676520" cy="838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1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8" name="Straight Arrow Connector 41"/>
          <p:cNvCxnSpPr/>
          <p:nvPr/>
        </p:nvCxnSpPr>
        <p:spPr>
          <a:xfrm>
            <a:off x="3657240" y="762120"/>
            <a:ext cx="61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9" name="Straight Arrow Connector 27"/>
          <p:cNvCxnSpPr>
            <a:endCxn id="500" idx="1"/>
          </p:cNvCxnSpPr>
          <p:nvPr/>
        </p:nvCxnSpPr>
        <p:spPr>
          <a:xfrm>
            <a:off x="2895120" y="1752480"/>
            <a:ext cx="3886920" cy="254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0" name="Rectangle 29"/>
          <p:cNvSpPr/>
          <p:nvPr/>
        </p:nvSpPr>
        <p:spPr>
          <a:xfrm>
            <a:off x="6781680" y="1752480"/>
            <a:ext cx="2043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inue CEM processing and generation of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77 respon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01" name="Straight Arrow Connector 30"/>
          <p:cNvCxnSpPr/>
          <p:nvPr/>
        </p:nvCxnSpPr>
        <p:spPr>
          <a:xfrm>
            <a:off x="3657240" y="2743200"/>
            <a:ext cx="61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2" name="Slide Number Placeholder 3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80FD-BC9C-436F-92A2-EC66255FFC27}" type="slidenum">
              <a:rPr b="1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ounded Rectangle 43"/>
          <p:cNvSpPr/>
          <p:nvPr/>
        </p:nvSpPr>
        <p:spPr>
          <a:xfrm>
            <a:off x="4267080" y="2057400"/>
            <a:ext cx="2133720" cy="22096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209680"/>
              <a:gd name="textAreaBottom" fmla="*/ 2105640 h 2209680"/>
            </a:gdLst>
            <a:ahLst/>
            <a:rect l="textAreaLeft" t="textAreaTop" r="textAreaRight" b="textAreaBottom"/>
            <a:pathLst>
              <a:path w="21600" h="22369">
                <a:moveTo>
                  <a:pt x="3600" y="0"/>
                </a:moveTo>
                <a:arcTo wR="3600" hR="3600" stAng="16200000" swAng="-5400000"/>
                <a:lnTo>
                  <a:pt x="0" y="18769"/>
                </a:lnTo>
                <a:arcTo wR="3600" hR="3600" stAng="10800000" swAng="-5400000"/>
                <a:lnTo>
                  <a:pt x="18000" y="22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ounded Rectangle 47"/>
          <p:cNvSpPr/>
          <p:nvPr/>
        </p:nvSpPr>
        <p:spPr>
          <a:xfrm>
            <a:off x="4495680" y="2514600"/>
            <a:ext cx="1676520" cy="762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2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ounded Rectangle 48"/>
          <p:cNvSpPr/>
          <p:nvPr/>
        </p:nvSpPr>
        <p:spPr>
          <a:xfrm>
            <a:off x="4495680" y="32767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3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ounded Rectangle 56"/>
          <p:cNvSpPr/>
          <p:nvPr/>
        </p:nvSpPr>
        <p:spPr>
          <a:xfrm>
            <a:off x="6705720" y="4208400"/>
            <a:ext cx="2133360" cy="24973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497320"/>
              <a:gd name="textAreaBottom" fmla="*/ 2393280 h 2497320"/>
            </a:gdLst>
            <a:ahLst/>
            <a:rect l="textAreaLeft" t="textAreaTop" r="textAreaRight" b="textAreaBottom"/>
            <a:pathLst>
              <a:path w="21600" h="25284">
                <a:moveTo>
                  <a:pt x="3600" y="0"/>
                </a:moveTo>
                <a:arcTo wR="3600" hR="3600" stAng="16200000" swAng="-5400000"/>
                <a:lnTo>
                  <a:pt x="0" y="21684"/>
                </a:lnTo>
                <a:arcTo wR="3600" hR="3600" stAng="10800000" swAng="-5400000"/>
                <a:lnTo>
                  <a:pt x="18000" y="25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2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ounded Rectangle 49"/>
          <p:cNvSpPr/>
          <p:nvPr/>
        </p:nvSpPr>
        <p:spPr>
          <a:xfrm>
            <a:off x="6934320" y="4589640"/>
            <a:ext cx="1676160" cy="10666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1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2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ounded Rectangle 50"/>
          <p:cNvSpPr/>
          <p:nvPr/>
        </p:nvSpPr>
        <p:spPr>
          <a:xfrm>
            <a:off x="6934320" y="5656320"/>
            <a:ext cx="1676160" cy="7621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T 277CA (TS 3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Box 57"/>
          <p:cNvSpPr/>
          <p:nvPr/>
        </p:nvSpPr>
        <p:spPr>
          <a:xfrm>
            <a:off x="4724280" y="58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S Translat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Box 58"/>
          <p:cNvSpPr/>
          <p:nvPr/>
        </p:nvSpPr>
        <p:spPr>
          <a:xfrm>
            <a:off x="7162920" y="1350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11" name="Straight Arrow Connector 54"/>
          <p:cNvCxnSpPr>
            <a:endCxn id="504" idx="1"/>
          </p:cNvCxnSpPr>
          <p:nvPr/>
        </p:nvCxnSpPr>
        <p:spPr>
          <a:xfrm flipV="1">
            <a:off x="3428640" y="2894760"/>
            <a:ext cx="106740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2" name="Straight Arrow Connector 65"/>
          <p:cNvCxnSpPr/>
          <p:nvPr/>
        </p:nvCxnSpPr>
        <p:spPr>
          <a:xfrm flipV="1">
            <a:off x="3427920" y="3733200"/>
            <a:ext cx="1067400" cy="144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Straight Arrow Connector 46"/>
          <p:cNvCxnSpPr/>
          <p:nvPr/>
        </p:nvCxnSpPr>
        <p:spPr>
          <a:xfrm>
            <a:off x="2971800" y="3962160"/>
            <a:ext cx="4115520" cy="99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4" name="Straight Arrow Connector 52"/>
          <p:cNvCxnSpPr/>
          <p:nvPr/>
        </p:nvCxnSpPr>
        <p:spPr>
          <a:xfrm>
            <a:off x="2971800" y="4343400"/>
            <a:ext cx="403920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5" name="Straight Arrow Connector 59"/>
          <p:cNvCxnSpPr/>
          <p:nvPr/>
        </p:nvCxnSpPr>
        <p:spPr>
          <a:xfrm>
            <a:off x="2971800" y="5562720"/>
            <a:ext cx="403920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6" name="Straight Connector 77"/>
          <p:cNvSpPr/>
          <p:nvPr/>
        </p:nvSpPr>
        <p:spPr>
          <a:xfrm>
            <a:off x="6553080" y="152280"/>
            <a:ext cx="0" cy="6477120"/>
          </a:xfrm>
          <a:prstGeom prst="line">
            <a:avLst/>
          </a:prstGeom>
          <a:ln w="38160">
            <a:solidFill>
              <a:srgbClr val="b6dcd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17" name="Straight Arrow Connector 84"/>
          <p:cNvCxnSpPr>
            <a:endCxn id="506" idx="1"/>
          </p:cNvCxnSpPr>
          <p:nvPr/>
        </p:nvCxnSpPr>
        <p:spPr>
          <a:xfrm>
            <a:off x="3657240" y="5334120"/>
            <a:ext cx="3048840" cy="124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ounded Rectangle 40"/>
          <p:cNvSpPr/>
          <p:nvPr/>
        </p:nvSpPr>
        <p:spPr>
          <a:xfrm>
            <a:off x="4191120" y="304920"/>
            <a:ext cx="2133360" cy="144756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ounded Rectangle 1"/>
          <p:cNvSpPr/>
          <p:nvPr/>
        </p:nvSpPr>
        <p:spPr>
          <a:xfrm>
            <a:off x="152280" y="76320"/>
            <a:ext cx="3810240" cy="6705360"/>
          </a:xfrm>
          <a:custGeom>
            <a:avLst/>
            <a:gdLst>
              <a:gd name="textAreaLeft" fmla="*/ 78480 w 3810240"/>
              <a:gd name="textAreaRight" fmla="*/ 3731760 w 3810240"/>
              <a:gd name="textAreaTop" fmla="*/ 78480 h 6705360"/>
              <a:gd name="textAreaBottom" fmla="*/ 6626880 h 6705360"/>
            </a:gdLst>
            <a:ahLst/>
            <a:rect l="textAreaLeft" t="textAreaTop" r="textAreaRight" b="textAreaBottom"/>
            <a:pathLst>
              <a:path w="21600" h="38011">
                <a:moveTo>
                  <a:pt x="1520" y="0"/>
                </a:moveTo>
                <a:arcTo wR="1520" hR="1520" stAng="16200000" swAng="-5400000"/>
                <a:lnTo>
                  <a:pt x="0" y="36491"/>
                </a:lnTo>
                <a:arcTo wR="1520" hR="1520" stAng="10800000" swAng="-5400000"/>
                <a:lnTo>
                  <a:pt x="20080" y="38011"/>
                </a:lnTo>
                <a:arcTo wR="1520" hR="1520" stAng="5400000" swAng="-5400000"/>
                <a:lnTo>
                  <a:pt x="21600" y="1520"/>
                </a:lnTo>
                <a:arcTo wR="1520" hR="1520" stAng="0" swAng="-5400000"/>
                <a:close/>
              </a:path>
            </a:pathLst>
          </a:cu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ounded Rectangle 2"/>
          <p:cNvSpPr/>
          <p:nvPr/>
        </p:nvSpPr>
        <p:spPr>
          <a:xfrm>
            <a:off x="457200" y="609480"/>
            <a:ext cx="3124080" cy="4114800"/>
          </a:xfrm>
          <a:custGeom>
            <a:avLst/>
            <a:gdLst>
              <a:gd name="textAreaLeft" fmla="*/ 86760 w 3124080"/>
              <a:gd name="textAreaRight" fmla="*/ 3037320 w 3124080"/>
              <a:gd name="textAreaTop" fmla="*/ 86760 h 4114800"/>
              <a:gd name="textAreaBottom" fmla="*/ 4028040 h 4114800"/>
            </a:gdLst>
            <a:ahLst/>
            <a:rect l="textAreaLeft" t="textAreaTop" r="textAreaRight" b="textAreaBottom"/>
            <a:pathLst>
              <a:path w="21600" h="28449">
                <a:moveTo>
                  <a:pt x="2056" y="0"/>
                </a:moveTo>
                <a:arcTo wR="2056" hR="2056" stAng="16200000" swAng="-5400000"/>
                <a:lnTo>
                  <a:pt x="0" y="26393"/>
                </a:lnTo>
                <a:arcTo wR="2056" hR="2056" stAng="10800000" swAng="-5400000"/>
                <a:lnTo>
                  <a:pt x="19544" y="28449"/>
                </a:lnTo>
                <a:arcTo wR="2056" hR="2056" stAng="5400000" swAng="-5400000"/>
                <a:lnTo>
                  <a:pt x="21600" y="2056"/>
                </a:lnTo>
                <a:arcTo wR="2056" hR="2056" stAng="0" swAng="-5400000"/>
                <a:close/>
              </a:path>
            </a:pathLst>
          </a:cu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ounded Rectangle 3"/>
          <p:cNvSpPr/>
          <p:nvPr/>
        </p:nvSpPr>
        <p:spPr>
          <a:xfrm>
            <a:off x="741240" y="990720"/>
            <a:ext cx="2611440" cy="19810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1 (005010X22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ounded Rectangle 4"/>
          <p:cNvSpPr/>
          <p:nvPr/>
        </p:nvSpPr>
        <p:spPr>
          <a:xfrm>
            <a:off x="1104840" y="1365120"/>
            <a:ext cx="1790640" cy="768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1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ounded Rectangle 8"/>
          <p:cNvSpPr/>
          <p:nvPr/>
        </p:nvSpPr>
        <p:spPr>
          <a:xfrm>
            <a:off x="1104840" y="2133720"/>
            <a:ext cx="1790640" cy="630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2 (837P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CL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Box 12"/>
          <p:cNvSpPr/>
          <p:nvPr/>
        </p:nvSpPr>
        <p:spPr>
          <a:xfrm>
            <a:off x="152280" y="152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mission Fil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ounded Rectangle 17"/>
          <p:cNvSpPr/>
          <p:nvPr/>
        </p:nvSpPr>
        <p:spPr>
          <a:xfrm>
            <a:off x="762120" y="2971800"/>
            <a:ext cx="2590560" cy="14479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2 (005010X212)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ounded Rectangle 18"/>
          <p:cNvSpPr/>
          <p:nvPr/>
        </p:nvSpPr>
        <p:spPr>
          <a:xfrm>
            <a:off x="1066680" y="327672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 Transaction Set (276)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1 Inquir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2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Claim 3 Inquir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ounded Rectangle 39"/>
          <p:cNvSpPr/>
          <p:nvPr/>
        </p:nvSpPr>
        <p:spPr>
          <a:xfrm>
            <a:off x="4419720" y="609480"/>
            <a:ext cx="1676160" cy="83844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1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3352680" y="1294920"/>
            <a:ext cx="10677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30"/>
          <p:cNvCxnSpPr/>
          <p:nvPr/>
        </p:nvCxnSpPr>
        <p:spPr>
          <a:xfrm>
            <a:off x="3581280" y="91440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0" name="Slide Number Placeholder 31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D8DD-7674-4263-854B-A47D1FB4A0B9}" type="slidenum">
              <a:rPr b="1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ounded Rectangle 43"/>
          <p:cNvSpPr/>
          <p:nvPr/>
        </p:nvSpPr>
        <p:spPr>
          <a:xfrm>
            <a:off x="4191120" y="3429000"/>
            <a:ext cx="2133360" cy="160020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ounded Rectangle 47"/>
          <p:cNvSpPr/>
          <p:nvPr/>
        </p:nvSpPr>
        <p:spPr>
          <a:xfrm>
            <a:off x="4419720" y="3809880"/>
            <a:ext cx="1676160" cy="99072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999 (for GS 2)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AK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AK9*R*1*1*0*1~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ounded Rectangle 56"/>
          <p:cNvSpPr/>
          <p:nvPr/>
        </p:nvSpPr>
        <p:spPr>
          <a:xfrm>
            <a:off x="6705720" y="1752480"/>
            <a:ext cx="2133360" cy="1752840"/>
          </a:xfrm>
          <a:prstGeom prst="roundRect">
            <a:avLst>
              <a:gd name="adj" fmla="val 16667"/>
            </a:avLst>
          </a:prstGeom>
          <a:solidFill>
            <a:srgbClr val="e4f3f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A Interchange 1</a:t>
            </a: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E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ounded Rectangle 49"/>
          <p:cNvSpPr/>
          <p:nvPr/>
        </p:nvSpPr>
        <p:spPr>
          <a:xfrm>
            <a:off x="6934320" y="2133720"/>
            <a:ext cx="1676160" cy="1066680"/>
          </a:xfrm>
          <a:prstGeom prst="roundRect">
            <a:avLst>
              <a:gd name="adj" fmla="val 16667"/>
            </a:avLst>
          </a:prstGeom>
          <a:solidFill>
            <a:srgbClr val="d6ece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Functional Group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1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T 277CA (TS 2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Box 57"/>
          <p:cNvSpPr/>
          <p:nvPr/>
        </p:nvSpPr>
        <p:spPr>
          <a:xfrm>
            <a:off x="4724280" y="58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TS Translato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Box 58"/>
          <p:cNvSpPr/>
          <p:nvPr/>
        </p:nvSpPr>
        <p:spPr>
          <a:xfrm>
            <a:off x="7162920" y="15238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7" name="Straight Arrow Connector 54"/>
          <p:cNvCxnSpPr/>
          <p:nvPr/>
        </p:nvCxnSpPr>
        <p:spPr>
          <a:xfrm>
            <a:off x="2895480" y="2437920"/>
            <a:ext cx="4268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Straight Connector 77"/>
          <p:cNvSpPr/>
          <p:nvPr/>
        </p:nvSpPr>
        <p:spPr>
          <a:xfrm>
            <a:off x="6553080" y="152280"/>
            <a:ext cx="0" cy="6477120"/>
          </a:xfrm>
          <a:prstGeom prst="line">
            <a:avLst/>
          </a:prstGeom>
          <a:ln w="38160">
            <a:solidFill>
              <a:srgbClr val="b6dcd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9" name="Straight Arrow Connector 60"/>
          <p:cNvCxnSpPr/>
          <p:nvPr/>
        </p:nvCxnSpPr>
        <p:spPr>
          <a:xfrm>
            <a:off x="2895480" y="1904760"/>
            <a:ext cx="42681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0" name="TextBox 44"/>
          <p:cNvSpPr/>
          <p:nvPr/>
        </p:nvSpPr>
        <p:spPr>
          <a:xfrm>
            <a:off x="3895560" y="5105520"/>
            <a:ext cx="2643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1 = R – Rejec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2 = 1 – Transaction Set Submit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3 = 1 – Transaction Sets Receiv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4 = 0 – Number of TS Accept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K905 = 1 – Functional Group Not Supported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41" name="Straight Arrow Connector 45"/>
          <p:cNvCxnSpPr/>
          <p:nvPr/>
        </p:nvCxnSpPr>
        <p:spPr>
          <a:xfrm>
            <a:off x="3352680" y="4038480"/>
            <a:ext cx="106776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55"/>
          <p:cNvCxnSpPr/>
          <p:nvPr/>
        </p:nvCxnSpPr>
        <p:spPr>
          <a:xfrm>
            <a:off x="3581280" y="3733920"/>
            <a:ext cx="610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27"/>
          <p:cNvCxnSpPr/>
          <p:nvPr/>
        </p:nvCxnSpPr>
        <p:spPr>
          <a:xfrm>
            <a:off x="3580920" y="1904760"/>
            <a:ext cx="312516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4"/>
          <p:cNvSpPr/>
          <p:nvPr/>
        </p:nvSpPr>
        <p:spPr>
          <a:xfrm>
            <a:off x="228600" y="1066680"/>
            <a:ext cx="87631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Interchange Envelop was processed by the receiver’s translator where their trading partner’s Interchange Sender Identifier (SSSSSSs) was entered incorrectly with an extra “s” causing a rejection of the Interchange Envelope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mitted Envelop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SA&gt;00&gt;1234567890&gt;00&gt;1234567890&gt;28&gt;SSSSSSs        &gt;28&gt;PPPPP          &gt;090721&gt;1700&gt;^&gt;00501&gt;900000001&gt;0&gt;P&gt;+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GS&gt;HC&gt;SSSSSS&gt;01001&gt;20090721&gt;1700&gt;700000001&gt;X&gt;005010X22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T&gt;837&gt;000000001&gt;005010X22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: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E&gt;32&gt;0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GE&gt;1&gt;7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EA&gt;1&gt;9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ing Interchange Acknowledgement - TA1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TA1.D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resulted in a TA1 Interchange Acknowledgement to be sent back with an Interchange Note Code of 006 “Invalid Interchange Sender ID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SA&gt;00&gt;1234567890&gt;00&gt;1234567890&gt;28&gt;PPPPP           &gt;28&gt;SSSSSS          &gt;100624&gt;1430&gt;^&gt;00501&gt;000000001&gt;0&gt;P&gt;+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TA1&gt;900000001&gt;100624&gt;1430&gt;R&gt;006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IEA&gt;0&gt;90000000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Interchange Acknowledgement Example (TA1)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46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0511-EA9E-492A-BE0B-34C23F2D213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itle 3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99"/>
                </a:solidFill>
                <a:latin typeface="Arial Rounded MT Bold"/>
              </a:rPr>
              <a:t>999 Example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4"/>
          <p:cNvSpPr/>
          <p:nvPr/>
        </p:nvSpPr>
        <p:spPr>
          <a:xfrm>
            <a:off x="228600" y="685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 Acknowledgement accepting a 837 Health Care Claim Functional Group which had 2 non-fatal errors and was accepted for further processing.  Each error is identified in the IK4 Segments 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999.D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43B6-28AB-439C-9200-19AB876405A1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80880" y="1676520"/>
          <a:ext cx="8382240" cy="48466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&gt;999&gt;000000001&gt;005010X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Acknowledgement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3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Implementation Acknowledgment For Health Care Insu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1&gt;HC&gt;000000001&gt;005010X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Response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ealth Care Claims Functional Identifier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Control Numb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2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Health Care Clai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2&gt;837&gt;000000001&gt;005010X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Response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ealth Care 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2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3 Guide ID Health Care Claim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&gt;CLM&gt;120&gt;&gt;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rror Identifica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containing a syntax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osition of the Segment within the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&gt;2&gt;782&gt;I12&gt;92.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Data Element Note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a Element position within Se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X12 Data Dictionary Referen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1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111 – Copy of Data Element in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itle 3"/>
          <p:cNvSpPr/>
          <p:nvPr/>
        </p:nvSpPr>
        <p:spPr>
          <a:xfrm>
            <a:off x="457200" y="1224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99"/>
                </a:solidFill>
                <a:latin typeface="Arial Rounded MT Bold"/>
              </a:rPr>
              <a:t>999 Example </a:t>
            </a:r>
            <a:r>
              <a:rPr b="1" lang="en-US" sz="2000" spc="-1" strike="noStrike">
                <a:solidFill>
                  <a:srgbClr val="003399"/>
                </a:solidFill>
                <a:latin typeface="Arial Rounded MT Bold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5A14-D654-4062-8F58-A999EA20030C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80880" y="838080"/>
          <a:ext cx="8382240" cy="3932280"/>
        </p:xfrm>
        <a:graphic>
          <a:graphicData uri="http://schemas.openxmlformats.org/drawingml/2006/table">
            <a:tbl>
              <a:tblPr/>
              <a:tblGrid>
                <a:gridCol w="4038840"/>
                <a:gridCol w="434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&gt;N4&gt;127&gt;&gt;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Error Identifica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containing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osition of Segment within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Segment has Data Element errors qual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&gt;3&gt;116&gt;6&gt;90033-2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mplementation Data Element Note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Data Element position within Seg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X12 Data Dictionary Reference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alid character in Data E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33-241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Copy of bad Data El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5&gt;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Response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cept, but errors were no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9&gt;E&gt;1&gt;1&g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Functional Group Response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Accept, but errors were no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Transaction Sets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Received Transaction 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Accepted Transaction 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&gt;10&gt;000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Trail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Number of Segments within Transaction S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-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4"/>
          <p:cNvSpPr/>
          <p:nvPr/>
        </p:nvSpPr>
        <p:spPr>
          <a:xfrm>
            <a:off x="762120" y="160020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tter:  Best Billing Ser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:   First Clearingh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:    Smith Clin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ubmission Date:  June 23, 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Processing Date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ne 23, 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laim:  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harges:  $100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was Rejected due to an invalid characters (extended characters – lower case without prior agreement to use the extended character set) contained within the Billing Provider’s Name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85*2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 Clin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FI*123456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</a:t>
            </a:r>
            <a:br>
              <a:rPr sz="3200"/>
            </a:br>
            <a:r>
              <a:rPr b="1" lang="en-US" sz="1600" spc="-1" strike="noStrike">
                <a:solidFill>
                  <a:srgbClr val="003399"/>
                </a:solidFill>
                <a:latin typeface="Arial Rounded MT Bold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S_EXAMPLE_277CA.DAT</a:t>
            </a:r>
            <a:r>
              <a:rPr b="1" lang="en-US" sz="1600" spc="-1" strike="noStrike">
                <a:solidFill>
                  <a:srgbClr val="003399"/>
                </a:solidFill>
                <a:latin typeface="Arial Rounded MT Bold"/>
              </a:rPr>
              <a:t>)</a:t>
            </a:r>
            <a:endParaRPr b="1" lang="en-US" sz="16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6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1618-848C-4C24-8423-18A0B40626DB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457200" y="6714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*277*0001*005010X214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HT*0085*08*277X2140001*20100623*1430*TH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1**20*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AY*2*FIRST CLEARINGHOUSE*****46*CLHR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1*200102051635S00001ABCDEF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TP*050*D8*2010062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TP*009*D8*2010062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2*1*21*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41*2*BEST BILLING SERVICE*****46*S0000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2*2002020542857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C*A7:23*20100623*U*10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TY*AA*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T*YY*1000.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L*3*2*19*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1*85*2*SMITH CLINIC*****XX*123456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N*1*SMITH789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C*A7:511**U*1000.00*****A7:504:85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QTY*QC*3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T*YY*1000.00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*22*0001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9" name="Slide Number Placeholder 6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4E22-C3BC-4CFB-86E7-1D84C6F5CDA8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77CA Example </a:t>
            </a:r>
            <a:br>
              <a:rPr sz="3200"/>
            </a:br>
            <a:r>
              <a:rPr b="1" lang="en-US" sz="1800" spc="-1" strike="noStrike">
                <a:solidFill>
                  <a:srgbClr val="003399"/>
                </a:solidFill>
                <a:latin typeface="Arial Rounded MT Bold"/>
              </a:rPr>
              <a:t>(Table 1)</a:t>
            </a:r>
            <a:endParaRPr b="1" lang="en-US" sz="18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8610480" y="6534000"/>
            <a:ext cx="53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550C-BABC-4DA4-A3F1-5B09CB8AEFB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457200" y="1290600"/>
          <a:ext cx="8381880" cy="3662280"/>
        </p:xfrm>
        <a:graphic>
          <a:graphicData uri="http://schemas.openxmlformats.org/drawingml/2006/table">
            <a:tbl>
              <a:tblPr/>
              <a:tblGrid>
                <a:gridCol w="4038480"/>
                <a:gridCol w="43434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&gt;277&gt;0001&gt;005010X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Header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277 Health Care Claim Acknowledgement Transaction Se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ontrol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010X21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Implementation Convention 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T&gt;0085&gt;08&gt;277X2140001&gt;20100624&gt;1430&gt;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Beginning of Hierarchical Transaction Segmen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8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Hierarchical Structure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formation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formation Recei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ovider of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t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Purpose Code (Statu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X21400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nventory Fil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062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rea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Set Creation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ransaction Type Code (Receipt Acknowledgement Adv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9:14:22Z</dcterms:created>
  <dc:creator>CMS</dc:creator>
  <dc:description/>
  <dc:language>en-US</dc:language>
  <cp:lastModifiedBy>Beatty, Gary</cp:lastModifiedBy>
  <dcterms:modified xsi:type="dcterms:W3CDTF">2010-06-30T20:10:22Z</dcterms:modified>
  <cp:revision>183</cp:revision>
  <dc:subject/>
  <dc:title>ICD-10</dc:title>
</cp:coreProperties>
</file>